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8896-C9B8-4697-A19C-32CC9DC65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B0A2-C7B3-4FBE-B892-5D8D140C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A4F3-5394-44A8-978E-8E084E0B6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C144-0A3A-46DC-8174-32C7B1F5E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4046-1610-4CB1-8FAB-555A6E125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00613-359B-45B1-A20A-15E2B003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0B2C-93CE-499D-A892-32AEBB93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99D1-F75A-4D9C-9BF3-E31AE7D2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FB4B-7BD2-4686-BD80-64F36401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1A5C-8473-4BA4-94E9-0AE92D06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0698-7647-4997-AD1F-DC43353E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35F3-A341-4953-9C74-710A95CE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9D8F-E5DB-4AF7-9BCE-E0865006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3E40-0738-49E0-ACD2-E401A8DF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9AEFA-D72C-44B3-A711-55FF5929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4640-E62D-49D7-B05F-361AD336C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176D8-CDDB-450D-9C7C-3E694BD1E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68D7A-768B-46BA-9EAE-E3860FD4A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DB3FA-61D4-486E-A14C-1CBEB3D2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700CB-D7F3-4871-B4BB-A4FCD356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8A96E-9744-4824-8EE1-039A6E92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3681D-9B26-4837-8ADF-06E6F842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41C2-3273-4F90-B7EA-2C330B6B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ED24B-6A5A-4214-9049-60681E684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C0A28-4514-4F6B-B96F-E68DFDAB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9ABC9-28B3-4451-AE31-FA56AC54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30AE9-0227-4C49-A1BA-EE88DBA2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1C668-92AE-4323-A71D-75D9AECC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75EA3-A0BD-4324-B3D7-0B5CFE6FD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FFC3E-7A7D-44C5-9E75-D39056D08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B91C-2D02-4913-9EBF-FF2797B0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5BF8-1778-4418-9FD9-D2F4C2B6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0430-87D6-4175-94AE-973CA5F7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383B-CC6E-4CA9-90FC-0D9355B1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FDC2-659B-42BF-8422-03DD80BA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2EFF-8BD8-421A-A8C1-CF8D9836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AB4B-4573-4876-AF45-C45DFE929F2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9EC7-49F1-40B5-93C2-12109B9850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132C-2D1F-4368-B8BE-77B7EA29240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Arial"/>
              </a:rPr>
              <a:t>Результаты ГИА </a:t>
            </a: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 по литературе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тература. 9 класс : учебник для общеобразовательных учреждений:  в 2 ч. / под ред. Г.И. Беленького. – М.: Мнемозина, 2009. – 368 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тория русской литературы 11 – 19 веков. Под редакцией в.И. Коровина, Н.И. Якушина. Учебное пособие для вузов. – М.: «Русское слово -РС», 2001, 592 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ёдоров А.В. ОГЭ-2020: Литература: 10 тренировочных вариантов экзаменационных работ для подготовки к основному государственному экзамену / А.В.Фёдоров, Е.А. Зинина. – М.: Издательство АСТ, 2019 – 125 с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личество участников ОГЭ по литератур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за последние 4 год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0" y="1828800"/>
          <a:ext cx="9109080" cy="4237200"/>
        </p:xfrm>
        <a:graphic>
          <a:graphicData uri="http://schemas.openxmlformats.org/drawingml/2006/table">
            <a:tbl>
              <a:tblPr/>
              <a:tblGrid>
                <a:gridCol w="1042920"/>
                <a:gridCol w="1008000"/>
                <a:gridCol w="1152720"/>
                <a:gridCol w="1152360"/>
                <a:gridCol w="1152720"/>
                <a:gridCol w="1224000"/>
                <a:gridCol w="1152360"/>
                <a:gridCol w="1224000"/>
              </a:tblGrid>
              <a:tr h="1168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3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челов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от общего числа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челов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от общего числа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челов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от общего числа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челов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от общего числа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личество участников ОГЭ по предмету по АТ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8360" y="1052640"/>
          <a:ext cx="8229600" cy="5846760"/>
        </p:xfrm>
        <a:graphic>
          <a:graphicData uri="http://schemas.openxmlformats.org/drawingml/2006/table">
            <a:tbl>
              <a:tblPr/>
              <a:tblGrid>
                <a:gridCol w="4424400"/>
                <a:gridCol w="3805200"/>
              </a:tblGrid>
              <a:tr h="239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 учас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. Орё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. Мценс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. Лив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олхов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рхов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митров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лжан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намен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пнян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рсаков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омско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ивен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лов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лоархангель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кров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вердлов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сков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оснян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риц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отынец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Таблица 2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намика результатов ОГЭ по литератур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за 3 г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39640" y="1844640"/>
          <a:ext cx="8064720" cy="3960720"/>
        </p:xfrm>
        <a:graphic>
          <a:graphicData uri="http://schemas.openxmlformats.org/drawingml/2006/table">
            <a:tbl>
              <a:tblPr/>
              <a:tblGrid>
                <a:gridCol w="1476360"/>
                <a:gridCol w="1113120"/>
                <a:gridCol w="1112760"/>
                <a:gridCol w="1111320"/>
                <a:gridCol w="1112760"/>
                <a:gridCol w="1111320"/>
                <a:gridCol w="1027080"/>
              </a:tblGrid>
              <a:tr h="6732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 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Получи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17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18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19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2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,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,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«4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,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,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6633"/>
                </a:solidFill>
                <a:latin typeface="Garamond"/>
              </a:rPr>
              <a:t>2019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1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1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1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князь Игорь решается на побег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2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роль в описании бегства Игоря играют образы природы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3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поставьте рассматриваемый фрагмент «Слова о полку Игореве»  с финалом рассказа Л. Н. Толстого «Кавказский пленник». Чем различаются описания бегства героев из плена?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2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.1. Почему лирический герой стихотворения сравнивает себя с нищим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.2. В чём заключается своеобразие композиции стихотворения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.3. Сопоставьте стихотворение М. Ю. Лермонтова и Н. А. Некрасова «Вор». В чём состоит различие проблематики этих стихотворений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 Каковы нравственные уроки  неудачного похода князя Игоря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 Как в лирике М. Ю. Лермонтова раскрывается тема предназначения поэта и его трагической судьбы? (на примере не менее двух стихотворений по вашему выбору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 Черты нравственного идеала в образе Софьи (по комедии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 И. Фонвизина «Недоросль»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 Какие характерные черты народа воплощены в образе Матрёны? (по рассказу А. И. Солженицына «Матрёнин двор»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33"/>
                </a:solidFill>
                <a:latin typeface="Garamond"/>
              </a:rPr>
              <a:t>Основные трудности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Школьники с трудом находят элементы различия (или сходства) между произведениями (или фрагментами), затрудняются в подборе аргументов для обоснования указанного в задании направления сопоставлен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дной из очевидных «проблемных зон» изучения литературы в основной школе является формирование литературоведческой компетенци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низкий уровень умений, связанных с привлечением текста для аргументации и речевым оформлением высказывания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анализ лирических произведений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33"/>
                </a:solidFill>
                <a:latin typeface="Garamond"/>
              </a:rPr>
              <a:t>Изменения в КИМ по литературе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величено количество тем сочинений в части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мы не связаны с произведениями, которые включены в часть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менение в оцениван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33"/>
                </a:solidFill>
                <a:latin typeface="Garamond"/>
              </a:rPr>
              <a:t>Часть 2. Варианты тем сочинений </a:t>
            </a:r>
            <a:br>
              <a:rPr sz="2900"/>
            </a:br>
            <a:r>
              <a:rPr b="0" lang="ru-RU" sz="2900" spc="-1" strike="noStrike">
                <a:solidFill>
                  <a:srgbClr val="006633"/>
                </a:solidFill>
                <a:latin typeface="Garamond"/>
              </a:rPr>
              <a:t>ОГЭ - 2020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2.1. В чём схожи и в чём различны, с Вашей точки зрения, натур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Хлестакова и Чичикова? (По произведениям Н.В. Гоголя «Ревизор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 «Мёртвые души»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2.2. Против чего протестует Чацкий? (По комедии А.С. Грибоедов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«Горе от ума»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2.3. Согласны ли Вы с мнением В.Г. Белинского, назвавшего Евге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негина «эгоистом поневоле»? (По роману А.С. Пушкина «Евгени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негин»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2.4. Как в лирике одного из отечественных поэтов второй половины ХХ –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ачала XXI в. раскрывается тема любви? (На примере не менее двух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тихотворений по Вашему выбору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2.5. Какие сюжеты из произведений отечественной и зарубежно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литературы являются для Вас актуальными и почему? (На основ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анализа одного - двух произведений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33"/>
                </a:solidFill>
                <a:latin typeface="Garamond"/>
              </a:rPr>
              <a:t>Критерии оценивания грамотности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95280" y="1197000"/>
          <a:ext cx="8291520" cy="4896000"/>
        </p:xfrm>
        <a:graphic>
          <a:graphicData uri="http://schemas.openxmlformats.org/drawingml/2006/table">
            <a:tbl>
              <a:tblPr/>
              <a:tblGrid>
                <a:gridCol w="720720"/>
                <a:gridCol w="7570800"/>
              </a:tblGrid>
              <a:tr h="549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К1. Соблюдение орфографических нор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фографических ошибок нет, или допущено не более одной ошиб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щено две – четыре ошиб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щено пять и более ошибок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К2. Соблюдение пунктуационных норм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нктуационных ошибок нет, или допущено не более двух ошибок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щено три – пять ошибок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щено более пяти ошибок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К3. Соблюдение грамматических норм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мматических ошибок нет, или допущена одна ошибк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щено две - три ошиб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щено четыре и более ошиб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9T13:35:39Z</dcterms:created>
  <dc:creator>V2X</dc:creator>
  <dc:description/>
  <dc:language>en-US</dc:language>
  <cp:lastModifiedBy>user</cp:lastModifiedBy>
  <dcterms:modified xsi:type="dcterms:W3CDTF">2019-11-29T12:17:20Z</dcterms:modified>
  <cp:revision>62</cp:revision>
  <dc:subject/>
  <dc:title>ОГЭ по литературе</dc:title>
</cp:coreProperties>
</file>